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cetylation of a variety of proteins by acetylases affects their activity in different ways. The activity of acetylases is regulated, at leas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 vitr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y kinases involved in DNA repair (DNA‐PK) and cell cycle progression (cyclin E–CDK). Acetylated targets include histones, nuclear acetylases (P/CAF and p300), transcription factors [e.g. HMGI(Y), E2F1, p53 and TCF], the nuclear import factor, importin‐α and α‐tubulin. Acetylation has many consequences, including effects on DNA binding, protein stability and protein–protein interaction. Ac, acetylation; p,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etylation: a regulatory modification to rival phosphory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Tony Kouzar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MBO 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9(6):1176-11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rch 15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as stated in the article, figure or figure 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05920" y="6721560"/>
            <a:ext cx="1544400" cy="7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etylation of a variety of proteins by acetylases affects their activity in different way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6721560"/>
            <a:ext cx="1544400" cy="704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71920" y="1079640"/>
            <a:ext cx="47415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7192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ny Kouzarides EMBO J. 2000;19:1176-11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as stated in the article, figure or figure 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