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HAT domain of CBP activates transcription </a:t>
            </a:r>
            <a:r>
              <a:rPr b="0" i="1" lang="en-GB" sz="1200" spc="-1" strike="noStrike">
                <a:solidFill>
                  <a:srgbClr val="000000"/>
                </a:solidFill>
                <a:latin typeface="Arial"/>
                <a:ea typeface="msgothic"/>
              </a:rPr>
              <a:t>in vivo</a:t>
            </a:r>
            <a:r>
              <a:rPr b="0" lang="en-GB" sz="1200" spc="-1" strike="noStrike">
                <a:solidFill>
                  <a:srgbClr val="000000"/>
                </a:solidFill>
                <a:latin typeface="Arial"/>
                <a:ea typeface="msgothic"/>
              </a:rPr>
              <a:t> but not </a:t>
            </a:r>
            <a:r>
              <a:rPr b="0" i="1" lang="en-GB" sz="1200" spc="-1" strike="noStrike">
                <a:solidFill>
                  <a:srgbClr val="000000"/>
                </a:solidFill>
                <a:latin typeface="Arial"/>
                <a:ea typeface="msgothic"/>
              </a:rPr>
              <a:t>in vitro</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 schematic representation of the CBP protein. Indicated above are the factors which have been shown to bind CBP. Also indicated are important features of the CBP protein; cys, ZZ and TAZ are putative zinc‐finger regions, Bromo is the bromodomain and HAT is the histone acetyltransferase domain. Shown below the CBP schematic are schematics of the constructs used; GAL4 is the GAL4‐DBD, CBP‐HATΔ has an in‐frame deletion of amino acids 1458–1475 within the CBP HAT domai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CBP2 co‐operates with the CBP HAT domain to activate transcription. 2 μg of G5AdML CAT reporter plasmid were transfected into U2OS cells along with 2 μg of the indicated effector plasmid. Extracts from these cells were then used in CAT assays. The activity derived from the GAL4‐DBD was normalized to 1.0 and the activity of the other effectors is expressed relative to thi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 IP‐HAT assay was performed using an anti‐GAL4 antibody on extracts derived from (B). The background HAT activity associated with the GAL4‐DBD was normalized to 1.0 and the activity of the other GAL4‐fusions is expressed relative to this.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GAL4‐DBD, GAL4–Sp1 or GAL4–CBP‐HAT were analysed in a reconstituted </a:t>
            </a:r>
            <a:r>
              <a:rPr b="0" i="1" lang="en-GB" sz="1200" spc="-1" strike="noStrike">
                <a:solidFill>
                  <a:srgbClr val="000000"/>
                </a:solidFill>
                <a:latin typeface="Arial"/>
                <a:ea typeface="msgothic"/>
              </a:rPr>
              <a:t>in vitro</a:t>
            </a:r>
            <a:r>
              <a:rPr b="0" lang="en-GB" sz="1200" spc="-1" strike="noStrike">
                <a:solidFill>
                  <a:srgbClr val="000000"/>
                </a:solidFill>
                <a:latin typeface="Arial"/>
                <a:ea typeface="msgothic"/>
              </a:rPr>
              <a:t> transcription assay. The position of the accurately initiated transcript is indicated by an arrow. All GAL4 DNA‐binding proteins were in excess relative to the DNA‐binding sites. The GAL4–CBP‐HAT was fully active in an </a:t>
            </a:r>
            <a:r>
              <a:rPr b="0" i="1" lang="en-GB" sz="1200" spc="-1" strike="noStrike">
                <a:solidFill>
                  <a:srgbClr val="000000"/>
                </a:solidFill>
                <a:latin typeface="Arial"/>
                <a:ea typeface="msgothic"/>
              </a:rPr>
              <a:t>in vitro</a:t>
            </a:r>
            <a:r>
              <a:rPr b="0" lang="en-GB" sz="1200" spc="-1" strike="noStrike">
                <a:solidFill>
                  <a:srgbClr val="000000"/>
                </a:solidFill>
                <a:latin typeface="Arial"/>
                <a:ea typeface="msgothic"/>
              </a:rPr>
              <a:t> histone acetylation assay (data not show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HAT domain of CBP activates transcription in a promoter‐specific manner.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romoter specificity. 2 μg of the indicated reporter plasmid were transfected into U2OS cells along with 2 μg of either CMV‐promoter‐driven GAL4‐DBD or CMV‐promoter‐driven GAL4–CBP‐HAT. Extracts from these cells were then used in CAT assays. For each reporter, the activity derived from the GAL4‐DBD was normalized to 1.0 and the activity of GAL4–CBP‐HAT is expressed relative to thi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romoter specificity is not attributable to the TATA box. A similar analysis to that described in (A) was performed in 293T cells. The E1B/AdML‐promoter‐containing plasmid is identical to the CBP‐HAT‐unresponsive E1B‐containing plasmid except that its TATA box has been replaced with that from the CBP‐responsive AdML‐promoter‐containing plasmi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CBP HAT domain activates a TATA‐less promoter. Jurkat cells were transfected with 10 μg of the T‐cell‐specific CD4 promoter, which has GAL4 DNA‐binding sites integrated upstream, and which drives the synthesis of mRNA encoding luciferase. Along with this reporter, 2 μg of GAL4‐DBD, GAL4–CBP‐HAT or GAL4–CBP‐HATΔ was also transfected into the cells. In all cases, 2 μg of an internal control plasmid, CMV‐β‐galactosidase, were also included. The activity derived from the GAL4‐DBD was normalized to 1.0 and the activities of GAL4–CBP‐HAT and GAL4–CBP‐HATΔ are expressed relative to this (following normalization to the β‐galactosidase uni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BP and P/CAF HAT domains have sequence similarities. Alignment of the mouse CBP and human P/CAF HAT domains showing the conserved motifs identified in other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acetyltransferases (A, B, D) as well as the newly identified motif E. The mutated residues in CBP and their positions are indicated. Conserved residues are sha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BP HAT activity is required for transactiva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Fourteen point mutations were introduced into GAL4–CBP‐HAT and transfected into U2OS cells. After immunoprecipitation of the GAL4–CBP‐HAT mutants with an anti‐GAL4 DNA‐binding domain antibody, the precipitates were tested for their </a:t>
            </a:r>
            <a:r>
              <a:rPr b="0" i="1" lang="en-GB" sz="1200" spc="-1" strike="noStrike">
                <a:solidFill>
                  <a:srgbClr val="000000"/>
                </a:solidFill>
                <a:latin typeface="Arial"/>
                <a:ea typeface="msgothic"/>
              </a:rPr>
              <a:t>in vitro</a:t>
            </a:r>
            <a:r>
              <a:rPr b="0" lang="en-GB" sz="1200" spc="-1" strike="noStrike">
                <a:solidFill>
                  <a:srgbClr val="000000"/>
                </a:solidFill>
                <a:latin typeface="Arial"/>
                <a:ea typeface="msgothic"/>
              </a:rPr>
              <a:t> HAT activity. The HAT activity associated with the GAL4‐DBD is indicated as Backg. The mutated residues and their position in the CBP sequence are indicat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3 μg of wild‐type GAL4–CBP‐HAT domain mutants were co‐transfected along with 3 μg of G5AdML CAT reporter plasmid into U2OS cells. Extracts were made from these cells and then used in a CAT assay. The CAT activity is expressed as a percentage of the wild‐type GAL4–CBP‐H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BP and P/CAF have conserved motif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lignment of the mouse CBP and human P/CAF HAT domains showing the conserved motifs identified in other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acetyltransferases (A, B and D). Below the motifs, the conserved sequence derived from an alignment of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acetyltransferases (Neuwald and Landsman, 1997) is shown. Residues mutated in CBP and P/CAF are indicated by an asterisk. Conserved residues are shad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ree point mutations were introduced into the GAL4–P/CAF‐HAT domain and transfected into U2OS cells. IP‐HAT assays from transfected cells were performed as described for Figure 4. The mutated residues and their positions in P/CAF are indic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acetyltransferase activity of CBP stimulates transcrip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rian A. Martínez‐Balbás, Andrew J. Bannister, Klaus Martin, Philipp Haus‐Seuffert, Michael Meisterernst, and Tony Kouzaride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EMBO 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10):2886-289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5, 199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HAT domain of CBP activates transcription in vivo but not in vitro.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2725560" y="1079640"/>
            <a:ext cx="4633920" cy="5394240"/>
          </a:xfrm>
          <a:prstGeom prst="rect">
            <a:avLst/>
          </a:prstGeom>
          <a:ln w="0">
            <a:noFill/>
          </a:ln>
        </p:spPr>
      </p:pic>
      <p:sp>
        <p:nvSpPr>
          <p:cNvPr id="49" name=""/>
          <p:cNvSpPr/>
          <p:nvPr/>
        </p:nvSpPr>
        <p:spPr>
          <a:xfrm>
            <a:off x="2725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n A. Martínez‐Balbás et al. EMBO J. 1998;17:2886-289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HAT domain of CBP activates transcription in a promoter‐specific manner.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739800" y="1100160"/>
            <a:ext cx="8604360" cy="535320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n A. Martínez‐Balbás et al. EMBO J. 1998;17:2886-289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BP and P/CAF HAT domains have sequence similariti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2351160" y="1079640"/>
            <a:ext cx="5383080" cy="5394240"/>
          </a:xfrm>
          <a:prstGeom prst="rect">
            <a:avLst/>
          </a:prstGeom>
          <a:ln w="0">
            <a:noFill/>
          </a:ln>
        </p:spPr>
      </p:pic>
      <p:sp>
        <p:nvSpPr>
          <p:cNvPr id="59" name=""/>
          <p:cNvSpPr/>
          <p:nvPr/>
        </p:nvSpPr>
        <p:spPr>
          <a:xfrm>
            <a:off x="2351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n A. Martínez‐Balbás et al. EMBO J. 1998;17:2886-289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BP HAT activity is required for transactiv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305920" y="6721560"/>
            <a:ext cx="1544400" cy="704880"/>
          </a:xfrm>
          <a:prstGeom prst="rect">
            <a:avLst/>
          </a:prstGeom>
          <a:ln w="0">
            <a:noFill/>
          </a:ln>
        </p:spPr>
      </p:pic>
      <p:pic>
        <p:nvPicPr>
          <p:cNvPr id="63" name="" descr=""/>
          <p:cNvPicPr/>
          <p:nvPr/>
        </p:nvPicPr>
        <p:blipFill>
          <a:blip r:embed="rId2"/>
          <a:stretch/>
        </p:blipFill>
        <p:spPr>
          <a:xfrm>
            <a:off x="3895560" y="1079640"/>
            <a:ext cx="2294280" cy="5394240"/>
          </a:xfrm>
          <a:prstGeom prst="rect">
            <a:avLst/>
          </a:prstGeom>
          <a:ln w="0">
            <a:noFill/>
          </a:ln>
        </p:spPr>
      </p:pic>
      <p:sp>
        <p:nvSpPr>
          <p:cNvPr id="64" name=""/>
          <p:cNvSpPr/>
          <p:nvPr/>
        </p:nvSpPr>
        <p:spPr>
          <a:xfrm>
            <a:off x="3895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n A. Martínez‐Balbás et al. EMBO J. 1998;17:2886-289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BP and P/CAF have conserved motif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305920" y="6721560"/>
            <a:ext cx="1544400" cy="704880"/>
          </a:xfrm>
          <a:prstGeom prst="rect">
            <a:avLst/>
          </a:prstGeom>
          <a:ln w="0">
            <a:noFill/>
          </a:ln>
        </p:spPr>
      </p:pic>
      <p:pic>
        <p:nvPicPr>
          <p:cNvPr id="68" name="" descr=""/>
          <p:cNvPicPr/>
          <p:nvPr/>
        </p:nvPicPr>
        <p:blipFill>
          <a:blip r:embed="rId2"/>
          <a:stretch/>
        </p:blipFill>
        <p:spPr>
          <a:xfrm>
            <a:off x="2857680" y="1079640"/>
            <a:ext cx="4370040" cy="5394240"/>
          </a:xfrm>
          <a:prstGeom prst="rect">
            <a:avLst/>
          </a:prstGeom>
          <a:ln w="0">
            <a:noFill/>
          </a:ln>
        </p:spPr>
      </p:pic>
      <p:sp>
        <p:nvSpPr>
          <p:cNvPr id="69" name=""/>
          <p:cNvSpPr/>
          <p:nvPr/>
        </p:nvSpPr>
        <p:spPr>
          <a:xfrm>
            <a:off x="28576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ian A. Martínez‐Balbás et al. EMBO J. 1998;17:2886-289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